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wmf" ContentType="image/x-wmf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987-D77F-481A-BB31-D75C6C0D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64B-8DD1-402C-8442-818D71AD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46A-2563-4BA8-BD20-ACFBCDED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A12-F504-45A6-95FE-E533D0BE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483-A8C2-4926-81BE-9B27F927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558-434C-4188-98E9-F12293D6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EFF-AC61-4279-A15E-E928152A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FF0B-BC76-4DB9-BBB5-324D0396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122-3F95-4380-87E6-979B815F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F9E-D110-4154-9D3F-CB92D281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EA4-F45C-4F5B-ADED-968AB929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968-B74F-483F-9F02-B782FB14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77C3-09F6-4775-8514-C8CE34C95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85840"/>
            <a:ext cx="87375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AMPLE: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Parity Violating Electron Scattering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rom </a:t>
            </a: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ydroge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ute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600360"/>
            <a:ext cx="8026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000" y="111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6480" y="1001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544920" y="1428840"/>
          <a:ext cx="2063880" cy="207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1428840"/>
                    <a:ext cx="2063880" cy="20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833120" y="3657600"/>
            <a:ext cx="5484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3366"/>
                </a:solidFill>
                <a:latin typeface="Arial"/>
              </a:rPr>
              <a:t>Kellogg Radiation Lab, Caltech Pasadena,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Nuclear Physics Lab, Univ. of Illinois, Urbana, 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3366"/>
                </a:solidFill>
                <a:latin typeface="Arial"/>
              </a:rPr>
              <a:t>MIT-Bates Linear Accelerator Center, Middleton,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Univ. of Maryland, College Park,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3366"/>
                </a:solidFill>
                <a:latin typeface="Arial"/>
              </a:rPr>
              <a:t>Virginia Polytechnic Institute, Blacksburg, 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Louisiana Tech, Ralston,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3366"/>
                </a:solidFill>
                <a:latin typeface="Arial"/>
              </a:rPr>
              <a:t>University of Kentucky, Lexington, 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College of William and Mary, Williamsburg, 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66"/>
                </a:solidFill>
                <a:latin typeface="Arial"/>
              </a:rPr>
              <a:t>Argonne National Laboratory, Argonne, 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5240" y="624852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2001: plus MIT, Greno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ac28-15a" descr=""/>
          <p:cNvPicPr/>
          <p:nvPr/>
        </p:nvPicPr>
        <p:blipFill>
          <a:blip r:embed="rId1"/>
          <a:stretch/>
        </p:blipFill>
        <p:spPr>
          <a:xfrm>
            <a:off x="152280" y="3200400"/>
            <a:ext cx="4267440" cy="3162240"/>
          </a:xfrm>
          <a:prstGeom prst="rect">
            <a:avLst/>
          </a:prstGeom>
          <a:ln w="0">
            <a:noFill/>
          </a:ln>
        </p:spPr>
      </p:pic>
      <p:pic>
        <p:nvPicPr>
          <p:cNvPr id="177" name="pac28-15b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4419720" cy="3275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24560" y="15084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MT Signal Break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838080"/>
            <a:ext cx="3429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GHT”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en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nt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non-LIGHT”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sh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0666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72000" y="12189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33520" y="106668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eparate w/ pulse 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19051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20570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31720" y="190512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hutter clos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61880" y="2514600"/>
            <a:ext cx="61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Dependence of background on beam energy is w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114480"/>
            <a:ext cx="7772400" cy="47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tributions to the Deuteron A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514600" y="838080"/>
                <a:ext cx="3200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E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d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209680" y="2209680"/>
                <a:ext cx="376236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π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bSup>
                              </m:e>
                            </m:d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62680" y="1676520"/>
                <a:ext cx="16718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θ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θ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219320" y="3581280"/>
                <a:ext cx="5816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π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d>
                        <m:f>
                          <m:num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e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28600" y="1828800"/>
            <a:ext cx="499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ollock, PR D42 (1990) 30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4440" y="3200400"/>
            <a:ext cx="427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usolf + Donnelly, NP A546 (1992) 50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800600"/>
            <a:ext cx="62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Elastic and threshold breakup negligible at 200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may need to consider threshold bkup at 125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352680" y="838080"/>
                <a:ext cx="24386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203040" y="171360"/>
            <a:ext cx="873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V QUASIELASTIC (e,e’) from DEUTE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1480" y="80028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tatic” approxi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905120"/>
            <a:ext cx="8432640" cy="40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clear model uncertainties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Hadjimichael, Poulis + Donnell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R C45 (1992) 266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eson exchange/two-body curr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chramm + Horowitz, PRC 49 (1994) 27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Kuster + Arenhovel, NPA 626 (1997) 9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t SAMPLE kinematics: e.g.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=154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iaconescu, Schiavilla, and van Kolc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RC 63 (2001) 044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many-body effects are few % at 200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energy dependen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rez154" descr=""/>
          <p:cNvPicPr/>
          <p:nvPr/>
        </p:nvPicPr>
        <p:blipFill>
          <a:blip r:embed="rId1"/>
          <a:srcRect l="49914" t="3326" r="2496" b="3326"/>
          <a:stretch/>
        </p:blipFill>
        <p:spPr>
          <a:xfrm>
            <a:off x="4876920" y="1905120"/>
            <a:ext cx="3260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1960" y="1600200"/>
            <a:ext cx="829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AMPLE I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is unique opportunity to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ow energy behavior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25 MeV beam tune has been esta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ackgrounds demonstrated to be similar to that at  200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Will use high polarization crystal if performance is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572000" y="1905120"/>
                <a:ext cx="16002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3" name=""/>
          <p:cNvGraphicFramePr/>
          <p:nvPr/>
        </p:nvGraphicFramePr>
        <p:xfrm>
          <a:off x="7182000" y="228600"/>
          <a:ext cx="1587240" cy="160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82000" y="228600"/>
                    <a:ext cx="15872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ity Violating Electron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440" y="857160"/>
            <a:ext cx="42418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olarized electrons, unpolarized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486400" y="457200"/>
          <a:ext cx="3301920" cy="19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457200"/>
                    <a:ext cx="330192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752480" y="2514600"/>
                <a:ext cx="52214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d>
                    <m:f>
                      <m:num>
                        <m:sSubSup>
                          <m:e>
                            <m:r>
                              <m:t xml:space="preserve">εG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γ</m:t>
                            </m:r>
                          </m:sup>
                        </m:sSubSup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Z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τ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γ</m:t>
                            </m:r>
                          </m:sup>
                        </m:sSubSup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Z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ε</m:t>
                        </m:r>
                        <m:r>
                          <m:t xml:space="preserve">'</m:t>
                        </m:r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γ</m:t>
                            </m:r>
                          </m:sup>
                        </m:sSubSup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</m:num>
                      <m:den>
                        <m:r>
                          <m:t xml:space="preserve">ε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γ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γ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752480" y="1295280"/>
                <a:ext cx="129564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52480" y="4800600"/>
                <a:ext cx="48625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Z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 rot="1914000">
            <a:off x="3124080" y="3276720"/>
            <a:ext cx="152640" cy="457200"/>
          </a:xfrm>
          <a:prstGeom prst="up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rot="19686000">
            <a:off x="4876200" y="3276360"/>
            <a:ext cx="152280" cy="457200"/>
          </a:xfrm>
          <a:prstGeom prst="up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rot="1626600">
            <a:off x="6095520" y="3200400"/>
            <a:ext cx="165240" cy="456840"/>
          </a:xfrm>
          <a:prstGeom prst="upArrow">
            <a:avLst>
              <a:gd name="adj1" fmla="val 50000"/>
              <a:gd name="adj2" fmla="val 691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4480" y="380988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forward 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6600">
            <a:off x="4033440" y="3216240"/>
            <a:ext cx="165240" cy="456840"/>
          </a:xfrm>
          <a:prstGeom prst="upArrow">
            <a:avLst>
              <a:gd name="adj1" fmla="val 50000"/>
              <a:gd name="adj2" fmla="val 691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9040" y="3809880"/>
            <a:ext cx="17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backward 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1880" y="2106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a prot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010280" y="3276720"/>
                <a:ext cx="167652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θ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τ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84840" y="43434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Beyond 1st order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4800">
            <a:off x="3200400" y="5638680"/>
            <a:ext cx="154080" cy="457200"/>
          </a:xfrm>
          <a:prstGeom prst="upArrow">
            <a:avLst>
              <a:gd name="adj1" fmla="val 50000"/>
              <a:gd name="adj2" fmla="val 741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9182600">
            <a:off x="4495680" y="5333760"/>
            <a:ext cx="117720" cy="406440"/>
          </a:xfrm>
          <a:prstGeom prst="upArrow">
            <a:avLst>
              <a:gd name="adj1" fmla="val 50000"/>
              <a:gd name="adj2" fmla="val 86315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rot="1626600">
            <a:off x="5069520" y="5336640"/>
            <a:ext cx="109800" cy="378000"/>
          </a:xfrm>
          <a:prstGeom prst="upArrow">
            <a:avLst>
              <a:gd name="adj1" fmla="val 50000"/>
              <a:gd name="adj2" fmla="val 86066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5715000"/>
            <a:ext cx="34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lectroweak radiative co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920" y="61722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na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248520" y="6172200"/>
                <a:ext cx="1930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π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 flipH="1" rot="1484400">
            <a:off x="2320920" y="5559480"/>
            <a:ext cx="120600" cy="517320"/>
          </a:xfrm>
          <a:prstGeom prst="upArrow">
            <a:avLst>
              <a:gd name="adj1" fmla="val 50000"/>
              <a:gd name="adj2" fmla="val 107239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2160" y="609588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Z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8139800">
            <a:off x="4200480" y="5438520"/>
            <a:ext cx="112680" cy="446040"/>
          </a:xfrm>
          <a:prstGeom prst="upArrow">
            <a:avLst>
              <a:gd name="adj1" fmla="val 50000"/>
              <a:gd name="adj2" fmla="val 98962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1360" y="1141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UCLEON ANAPOL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23080" y="3143160"/>
            <a:ext cx="1198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a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TRI , P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4280" y="3143160"/>
            <a:ext cx="1765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lectric d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TRV, P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0320" y="160020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66"/>
                </a:solidFill>
                <a:latin typeface="Arial"/>
              </a:rPr>
              <a:t>General electromagnetic coupl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523880" y="3809880"/>
                <a:ext cx="16639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898920" y="743040"/>
            <a:ext cx="35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Musolf+Holstein, PRD43 (1991) 29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3124080"/>
            <a:ext cx="228600" cy="381240"/>
          </a:xfrm>
          <a:prstGeom prst="upArrow">
            <a:avLst>
              <a:gd name="adj1" fmla="val 50000"/>
              <a:gd name="adj2" fmla="val 4169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3124080"/>
            <a:ext cx="228600" cy="381240"/>
          </a:xfrm>
          <a:prstGeom prst="upArrow">
            <a:avLst>
              <a:gd name="adj1" fmla="val 50000"/>
              <a:gd name="adj2" fmla="val 4169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5334120"/>
            <a:ext cx="7620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Recent updates:</a:t>
            </a:r>
            <a:r>
              <a:rPr b="0" i="1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Zhu, Puglia, Holstein, Musolf, PRD62 (2000) 03300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Maekawa, Veiga, van Kolck, PLB 488 (2000) 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. Riska, NPA 678 (2000)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2880" y="4246560"/>
            <a:ext cx="294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Modeled by Musolf+Holst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(1990)  using DDH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867280" y="4267080"/>
          <a:ext cx="2514600" cy="191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267080"/>
                    <a:ext cx="251460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400800" y="609480"/>
          <a:ext cx="2057400" cy="12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609480"/>
                    <a:ext cx="2057400" cy="12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219320" y="2209680"/>
                <a:ext cx="57466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⟨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M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  <m:r>
                          <m:t xml:space="preserve">|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ν</m:t>
                            </m:r>
                          </m:sup>
                        </m:sSup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ν</m:t>
                            </m:r>
                          </m:sup>
                        </m:sSup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AMPLE Experiment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00" y="1295280"/>
            <a:ext cx="533160" cy="1143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5520" y="60948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j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" y="24382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5800" y="2819520"/>
            <a:ext cx="2286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080" y="2755800"/>
            <a:ext cx="64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6400" y="32767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0280" y="4102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87480" y="4559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13000" y="4216320"/>
            <a:ext cx="19047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10240" y="4915080"/>
            <a:ext cx="136044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= 200 M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 pulses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3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44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3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70400" y="4432320"/>
            <a:ext cx="228600" cy="2286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17760" y="45594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97200" y="4559400"/>
            <a:ext cx="73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35560" y="4559400"/>
            <a:ext cx="22860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60920" y="5168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14520" y="4559400"/>
            <a:ext cx="22860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89600" y="520704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2800" y="3924360"/>
            <a:ext cx="85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584520" y="2139840"/>
            <a:ext cx="0" cy="229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02800" y="2146320"/>
            <a:ext cx="2775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89520" y="528624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046320" y="5861160"/>
            <a:ext cx="18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046320" y="4895640"/>
            <a:ext cx="0" cy="96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830760" y="5657760"/>
            <a:ext cx="228600" cy="395280"/>
            <a:chOff x="3830760" y="5657760"/>
            <a:chExt cx="228600" cy="395280"/>
          </a:xfrm>
        </p:grpSpPr>
        <p:sp>
          <p:nvSpPr>
            <p:cNvPr id="114" name=""/>
            <p:cNvSpPr/>
            <p:nvPr/>
          </p:nvSpPr>
          <p:spPr>
            <a:xfrm>
              <a:off x="3830760" y="5749920"/>
              <a:ext cx="228600" cy="2286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3839760" y="5657760"/>
              <a:ext cx="19548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134160" y="6010200"/>
            <a:ext cx="16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 phase sh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85680" y="457200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8920" y="210816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m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45280" y="4559400"/>
            <a:ext cx="73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082920" y="2260440"/>
            <a:ext cx="2731320" cy="229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9200000">
            <a:off x="6273720" y="3970080"/>
            <a:ext cx="3049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9200000">
            <a:off x="6627600" y="3885840"/>
            <a:ext cx="228600" cy="2286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9200000">
            <a:off x="7235640" y="3374640"/>
            <a:ext cx="228600" cy="2286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9200000">
            <a:off x="6932160" y="363024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9200000">
            <a:off x="7491240" y="2311200"/>
            <a:ext cx="762120" cy="1447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400000">
            <a:off x="8440200" y="2736720"/>
            <a:ext cx="381240" cy="152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18000000">
            <a:off x="8047800" y="2269080"/>
            <a:ext cx="381240" cy="152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73600" y="5052960"/>
            <a:ext cx="228600" cy="2286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99480" y="38638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26120" y="16765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560" y="2971800"/>
            <a:ext cx="96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gl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87320" y="37339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7080" y="4707000"/>
            <a:ext cx="121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ari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6400" y="1638360"/>
            <a:ext cx="5810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16800" y="1638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7088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m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LARGE3D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543800" cy="6095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" y="17240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200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6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7200" y="2362320"/>
                <a:ext cx="2133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at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068480" y="5257800"/>
                <a:ext cx="21063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f>
                          <m:num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11360" y="114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1998/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1116000"/>
            <a:ext cx="244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1001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7621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998: 136 Coulombs deli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295280"/>
            <a:ext cx="28954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use of piezo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0 days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T. Averett, et al., NIM A438, 246 (1999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anh2y_super_D2" descr=""/>
          <p:cNvPicPr/>
          <p:nvPr/>
        </p:nvPicPr>
        <p:blipFill>
          <a:blip r:embed="rId1"/>
          <a:stretch/>
        </p:blipFill>
        <p:spPr>
          <a:xfrm>
            <a:off x="4495680" y="3657600"/>
            <a:ext cx="4191120" cy="3038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" y="44197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1999: 174 Coulombs deli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" y="5105520"/>
                <a:ext cx="31575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p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304920" y="327672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. Spayde et al., PRL 84, 1106 (200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56386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. Hasty et al., Science 290, 2117 (200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0880" y="2743200"/>
                <a:ext cx="32641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p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" name="anh2y_super_H2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1148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52280" y="152280"/>
          <a:ext cx="517212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517212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5568120" y="1522440"/>
            <a:ext cx="22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0.1 (GeV/c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486400" y="2438280"/>
                <a:ext cx="35053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e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mott-1" descr=""/>
          <p:cNvPicPr/>
          <p:nvPr/>
        </p:nvPicPr>
        <p:blipFill>
          <a:blip r:embed="rId1"/>
          <a:stretch/>
        </p:blipFill>
        <p:spPr>
          <a:xfrm>
            <a:off x="4114800" y="2971800"/>
            <a:ext cx="4648320" cy="2973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3040" y="114480"/>
            <a:ext cx="873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tt Asymmetry in p(e,e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23320" y="685800"/>
            <a:ext cx="432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S. Wells, et al., Phys.Rev. C63 (2001) 064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1028880"/>
            <a:ext cx="791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transverse beam pol’n + full </a:t>
            </a:r>
            <a:r>
              <a:rPr b="0" lang="en-US" sz="1800" spc="-1" strike="noStrike">
                <a:solidFill>
                  <a:srgbClr val="cc3399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-coverage of detector gives access to possible spin dependent terms in elastic cross se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1480" y="2971800"/>
            <a:ext cx="38134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lowest order is 2-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cc3399"/>
                </a:solidFill>
                <a:latin typeface="Arial"/>
              </a:rPr>
              <a:t>1st measurement at “high”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99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no calculations for spin-1/2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523880" y="1752480"/>
                <a:ext cx="32608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↑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↓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↑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↓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867280" y="1676520"/>
                <a:ext cx="21402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43000" y="6172200"/>
                <a:ext cx="6743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t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±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pm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eV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5996520" y="1760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586480" y="2435400"/>
                <a:ext cx="2666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781680" y="2057400"/>
            <a:ext cx="152640" cy="285840"/>
          </a:xfrm>
          <a:prstGeom prst="downArrow">
            <a:avLst>
              <a:gd name="adj1" fmla="val 50000"/>
              <a:gd name="adj2" fmla="val 468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459080" y="1295280"/>
                <a:ext cx="59958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8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π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3040" y="171360"/>
            <a:ext cx="873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E00-04:  D(e,e’) at 125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8280" y="800280"/>
            <a:ext cx="23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= 0.04 (GeV/c)</a:t>
            </a:r>
            <a:r>
              <a:rPr b="0" lang="en-US" sz="20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1760" y="628560"/>
            <a:ext cx="282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spokesperson: T. Ito, Calte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93880" y="2293920"/>
            <a:ext cx="802152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ifferent systematic eff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3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.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background similar, so improved S/B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milar sensitivity to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, unique opportunity to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other systematic errors compa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 2 month run, exp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test run April/May 2001, production run Oct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29000" y="3809880"/>
                <a:ext cx="1295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463760" y="5135400"/>
                <a:ext cx="579744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t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y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20:48:53Z</dcterms:created>
  <dc:creator>Physics Dept, University  of Maryland, College Park</dc:creator>
  <dc:description/>
  <dc:language>en-US</dc:language>
  <cp:lastModifiedBy>Elizabeth Beise</cp:lastModifiedBy>
  <cp:lastPrinted>2000-11-28T21:11:33Z</cp:lastPrinted>
  <dcterms:modified xsi:type="dcterms:W3CDTF">2001-07-31T21:41:36Z</dcterms:modified>
  <cp:revision>128</cp:revision>
  <dc:subject/>
  <dc:title>No Slide Title</dc:title>
</cp:coreProperties>
</file>