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AB7-6903-4B7A-B6D8-69F25A1D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089-9A7F-4E23-B49A-40F3727C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6C4-779F-45A5-A6B5-1B8FE1C6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B38D-99A7-466F-8E39-B740E977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C54-1313-4D7C-BDAE-E7F64681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800-EAE7-40C5-A31B-4236EF2C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950-8F12-42E9-BB9A-531CD27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DF5D-3087-4D0E-A2A0-E25EC8BA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254-D6ED-4980-96A3-793E581E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1DC-794B-40B8-B9C2-68006BD3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B0F-8317-47B3-A215-AF6F8821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88F-4105-49E3-AE56-A04C0E67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C071-FD58-447C-96AD-675C8E93D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chematic_g0" descr=""/>
          <p:cNvPicPr/>
          <p:nvPr/>
        </p:nvPicPr>
        <p:blipFill>
          <a:blip r:embed="rId1"/>
          <a:srcRect l="10589" t="7844" r="15295" b="10591"/>
          <a:stretch/>
        </p:blipFill>
        <p:spPr>
          <a:xfrm>
            <a:off x="3581280" y="1832040"/>
            <a:ext cx="5340600" cy="407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09200" y="171360"/>
            <a:ext cx="777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 G0 experiment at JL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58800"/>
            <a:ext cx="7772400" cy="17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Forward and backward angle PV e-p elastic and e-d (quasielastic) in JLab Hall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superconducting toroidal mag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48320" y="1371600"/>
                <a:ext cx="41907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e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para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ver range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eV/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228600" y="2637000"/>
            <a:ext cx="41911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scattered particles detected in segmented scintillator arrays in spectrometer focal plane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custom electronics count and process scattered partic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at &gt; 1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first engineering ru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</a:rPr>
              <a:t>first data taking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manper1" descr=""/>
          <p:cNvPicPr/>
          <p:nvPr/>
        </p:nvPicPr>
        <p:blipFill>
          <a:blip r:embed="rId1"/>
          <a:stretch/>
        </p:blipFill>
        <p:spPr>
          <a:xfrm>
            <a:off x="5334120" y="3933720"/>
            <a:ext cx="3579840" cy="2764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G0 Experiment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761760"/>
            <a:ext cx="79250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Forward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First commissioning completed  (Oct ’02-Jan ’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Beam request for 2</a:t>
            </a:r>
            <a:r>
              <a:rPr b="0" lang="en-US" sz="2400" spc="-1" strike="noStrike" baseline="30000">
                <a:solidFill>
                  <a:srgbClr val="6633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commissioning and physics scheduled for fall ’03</a:t>
            </a:r>
            <a:br>
              <a:rPr sz="2400"/>
            </a:br>
            <a:r>
              <a:rPr b="0" lang="en-US" sz="2400" spc="-1" strike="noStrike">
                <a:solidFill>
                  <a:srgbClr val="81562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Backward 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Approved by PAC Jul ‘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If forward angle successful, will be ready for turnaround and physics late ’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6633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, 3</a:t>
            </a:r>
            <a:r>
              <a:rPr b="0" lang="en-US" sz="2400" spc="-1" strike="noStrike" baseline="30000">
                <a:solidFill>
                  <a:srgbClr val="6633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Q</a:t>
            </a:r>
            <a:r>
              <a:rPr b="0" lang="en-US" sz="2400" spc="-1" strike="noStrike" baseline="50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points not yet submitted to P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840" y="5943600"/>
            <a:ext cx="5168880" cy="580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ork had been jointly supported by Dept of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National Science Foun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heory_exp_new" descr=""/>
          <p:cNvPicPr/>
          <p:nvPr/>
        </p:nvPicPr>
        <p:blipFill>
          <a:blip r:embed="rId1"/>
          <a:stretch/>
        </p:blipFill>
        <p:spPr>
          <a:xfrm>
            <a:off x="0" y="360360"/>
            <a:ext cx="888840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G0 expected uncertain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axial" descr=""/>
          <p:cNvPicPr/>
          <p:nvPr/>
        </p:nvPicPr>
        <p:blipFill>
          <a:blip r:embed="rId1"/>
          <a:stretch/>
        </p:blipFill>
        <p:spPr>
          <a:xfrm>
            <a:off x="0" y="317520"/>
            <a:ext cx="86742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0 elastic scattering 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590920" y="2057400"/>
                <a:ext cx="39621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χ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χ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χ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ψ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s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 </m:t>
                                  </m:r>
                                  <m:r>
                                    <m:t xml:space="preserve">e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η</m:t>
                                  </m:r>
                                </m:e>
                                <m:sub>
                                  <m:r>
                                    <m:t xml:space="preserve">d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1219320" y="4114800"/>
            <a:ext cx="6705000" cy="2286000"/>
            <a:chOff x="1219320" y="4114800"/>
            <a:chExt cx="6705000" cy="2286000"/>
          </a:xfrm>
        </p:grpSpPr>
        <p:sp>
          <p:nvSpPr>
            <p:cNvPr id="49" name=""/>
            <p:cNvSpPr/>
            <p:nvPr/>
          </p:nvSpPr>
          <p:spPr>
            <a:xfrm>
              <a:off x="6298560" y="5829120"/>
              <a:ext cx="1625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.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74680" y="582912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52680" y="5829120"/>
              <a:ext cx="1422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.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582912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4.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19320" y="582912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98560" y="5257440"/>
              <a:ext cx="1625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74680" y="525744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1.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5257440"/>
              <a:ext cx="1422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.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8800" y="525744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5.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19320" y="52574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298560" y="4686120"/>
              <a:ext cx="1625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74680" y="468612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.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52680" y="4686120"/>
              <a:ext cx="1422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1.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468612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3.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9320" y="468612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98560" y="4114800"/>
              <a:ext cx="1625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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p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74680" y="411480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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p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52680" y="4114800"/>
              <a:ext cx="14220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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p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4114800"/>
              <a:ext cx="1523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p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411480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9320" y="4114800"/>
              <a:ext cx="67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9320" y="4686120"/>
              <a:ext cx="67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19320" y="5257440"/>
              <a:ext cx="67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19320" y="5829120"/>
              <a:ext cx="670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19320" y="6400800"/>
              <a:ext cx="6705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19320" y="4114800"/>
              <a:ext cx="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8800" y="41148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52680" y="41148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74680" y="41148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98560" y="41148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4320" y="4114800"/>
              <a:ext cx="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83120" y="3657600"/>
            <a:ext cx="258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Comic Sans MS"/>
              </a:rPr>
              <a:t>at 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Q</a:t>
            </a:r>
            <a:r>
              <a:rPr b="0" lang="en-US" sz="2000" spc="-1" strike="noStrike" baseline="30000">
                <a:solidFill>
                  <a:srgbClr val="006666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= 0.44 (GeV/c)</a:t>
            </a:r>
            <a:r>
              <a:rPr b="0" lang="en-US" sz="2000" spc="-1" strike="noStrike" baseline="30000">
                <a:solidFill>
                  <a:srgbClr val="006666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914400"/>
            <a:ext cx="84582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</a:rPr>
              <a:t>F</a:t>
            </a: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: one measurement for all Q</a:t>
            </a:r>
            <a:r>
              <a:rPr b="0" lang="en-US" sz="1800" spc="-1" strike="noStrike" baseline="30000">
                <a:solidFill>
                  <a:srgbClr val="006600"/>
                </a:solidFill>
                <a:latin typeface="Comic Sans MS"/>
              </a:rPr>
              <a:t>2 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 detect recoil pro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: three measurements for three Q</a:t>
            </a:r>
            <a:r>
              <a:rPr b="0" lang="en-US" sz="1800" spc="-1" strike="noStrike" baseline="30000">
                <a:solidFill>
                  <a:srgbClr val="0066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values: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 detect electrons at 108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66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: Quasielastic scattering (x3) from deuterium </a:t>
            </a:r>
            <a:r>
              <a:rPr b="0" lang="en-US" sz="1800" spc="-1" strike="noStrike">
                <a:solidFill>
                  <a:srgbClr val="0066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  detect electrons at 108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0 Appar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9589" t="0" r="13699" b="0"/>
          <a:stretch/>
        </p:blipFill>
        <p:spPr>
          <a:xfrm>
            <a:off x="152280" y="1071720"/>
            <a:ext cx="5105520" cy="4992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6803" t="8162" r="11567" b="2037"/>
          <a:stretch/>
        </p:blipFill>
        <p:spPr>
          <a:xfrm>
            <a:off x="5943600" y="609480"/>
            <a:ext cx="2181240" cy="320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76920" y="2286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octant’s scintillator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28800" y="990360"/>
            <a:ext cx="4419720" cy="1904760"/>
          </a:xfrm>
          <a:prstGeom prst="line">
            <a:avLst/>
          </a:prstGeom>
          <a:ln w="38160">
            <a:solidFill>
              <a:srgbClr val="815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828800" y="3352680"/>
            <a:ext cx="4800600" cy="152640"/>
          </a:xfrm>
          <a:prstGeom prst="line">
            <a:avLst/>
          </a:prstGeom>
          <a:ln w="38160">
            <a:solidFill>
              <a:srgbClr val="8156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4120" y="4343400"/>
          <a:ext cx="3633840" cy="21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4343400"/>
                    <a:ext cx="363384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114800" y="4191120"/>
            <a:ext cx="1828800" cy="160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809880"/>
            <a:ext cx="2209680" cy="7621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3962520"/>
            <a:ext cx="335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0 cm L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28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G0 Detection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magnet_optics_ejb.xfig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35440" cy="2584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762120"/>
            <a:ext cx="4114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Detect scattered Prot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Magnet sorts protons by Q</a:t>
            </a:r>
            <a:r>
              <a:rPr b="0" lang="en-US" sz="2000" spc="-1" strike="noStrike" baseline="30000">
                <a:solidFill>
                  <a:srgbClr val="99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at one set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Beam bunches 32 nsec a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Comic Sans MS"/>
              </a:rPr>
              <a:t>Flight time separates p and 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990000"/>
                </a:solidFill>
                <a:latin typeface="Symbol"/>
                <a:ea typeface="Symbol"/>
              </a:rPr>
              <a:t></a:t>
            </a:r>
            <a:r>
              <a:rPr b="0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3886200"/>
            <a:ext cx="3200400" cy="2809800"/>
          </a:xfrm>
          <a:prstGeom prst="rect">
            <a:avLst/>
          </a:prstGeom>
          <a:ln w="0">
            <a:noFill/>
          </a:ln>
        </p:spPr>
      </p:pic>
      <p:pic>
        <p:nvPicPr>
          <p:cNvPr id="97" name="tof_principle_ejb.xfig" descr=""/>
          <p:cNvPicPr/>
          <p:nvPr/>
        </p:nvPicPr>
        <p:blipFill>
          <a:blip r:embed="rId3"/>
          <a:stretch/>
        </p:blipFill>
        <p:spPr>
          <a:xfrm>
            <a:off x="3962520" y="4495680"/>
            <a:ext cx="5029200" cy="2109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46600" y="4800600"/>
            <a:ext cx="103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etec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6172200" y="3200400"/>
                <a:ext cx="244476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28600" y="32767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eam spin flipped every 30 ms: 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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R TOF Spectr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logentry_51958.2" descr=""/>
          <p:cNvPicPr/>
          <p:nvPr/>
        </p:nvPicPr>
        <p:blipFill>
          <a:blip r:embed="rId1"/>
          <a:stretch/>
        </p:blipFill>
        <p:spPr>
          <a:xfrm>
            <a:off x="0" y="66348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0 Fall 02 Engineering R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89154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mplete detector checkout: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magnet operational and stable at full current (5000 Am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LH2 target operation very smooth, density fluctuations neg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detailed studies of detector gain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hoton background rates initially high, now shiel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electronics, DAQ, generally working well, deadtime studies under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Beam check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40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A achieved but not s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10 C of detector asymmetry data acquired at 30 uA in Jan ‘ 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Goals achieved for “noise” specifications on beam at 15 H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osition stability:  20 </a:t>
            </a:r>
            <a:r>
              <a:rPr b="0" lang="en-US" sz="2000" spc="-1" strike="noStrike">
                <a:solidFill>
                  <a:srgbClr val="8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energy stability:   0.0003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current stability:  200 p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Helicity-correlated beam feedback systems test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charge asymmetry easily controlled to &lt; few pp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  <a:ea typeface="Times New Roman"/>
              </a:rPr>
              <a:t>Position feedback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eadtime Stu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det_vs_achg" descr=""/>
          <p:cNvPicPr/>
          <p:nvPr/>
        </p:nvPicPr>
        <p:blipFill>
          <a:blip r:embed="rId1"/>
          <a:srcRect l="0" t="51311" r="3630" b="0"/>
          <a:stretch/>
        </p:blipFill>
        <p:spPr>
          <a:xfrm>
            <a:off x="2901960" y="762120"/>
            <a:ext cx="6242040" cy="4462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8600" y="1143000"/>
            <a:ext cx="31399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With intensity feedback, can induce large charge asym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Any uncorrected deadtime will induce detector asymme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Comic Sans MS"/>
              </a:rPr>
              <a:t>Works if beam charge asymmetry uncorrelated with beam position dif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Analysis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01920" y="5105520"/>
            <a:ext cx="584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lope = 3-6% w/ 1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beam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mall fraction from charge/position cor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n-line Asymmetries at 4500 Am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logentry_52889.1" descr=""/>
          <p:cNvPicPr/>
          <p:nvPr/>
        </p:nvPicPr>
        <p:blipFill>
          <a:blip r:embed="rId1"/>
          <a:srcRect l="11089" t="7979" r="18765" b="5696"/>
          <a:stretch/>
        </p:blipFill>
        <p:spPr>
          <a:xfrm>
            <a:off x="2286000" y="541440"/>
            <a:ext cx="6858000" cy="6316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1295280"/>
            <a:ext cx="2362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hours of beam at 1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, reduced magnet cur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 days asymmetry data at 5000 Amps and 3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on disk, analysis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manper1" descr=""/>
          <p:cNvPicPr/>
          <p:nvPr/>
        </p:nvPicPr>
        <p:blipFill>
          <a:blip r:embed="rId1"/>
          <a:stretch/>
        </p:blipFill>
        <p:spPr>
          <a:xfrm>
            <a:off x="3886200" y="2917800"/>
            <a:ext cx="5103720" cy="3940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G0 Backward 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066680"/>
            <a:ext cx="83059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Electron detection: one Q</a:t>
            </a:r>
            <a:r>
              <a:rPr b="0" lang="en-US" sz="2000" spc="-1" strike="noStrike" baseline="30000">
                <a:solidFill>
                  <a:srgbClr val="cc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 per magnet setting: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=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108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Add Cryostat Exit detectors to define electron traj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1 scaler per channel FPD/CED p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euterium: pion rejection required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erogel Cerenkov detector (Caltech, TRIUMF, Greno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3657600"/>
          <a:ext cx="3124080" cy="1917720"/>
        </p:xfrm>
        <a:graphic>
          <a:graphicData uri="http://schemas.openxmlformats.org/drawingml/2006/table">
            <a:tbl>
              <a:tblPr/>
              <a:tblGrid>
                <a:gridCol w="1193760"/>
                <a:gridCol w="124452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be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e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754560" y="586728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Comic Sans MS"/>
              </a:rPr>
              <a:t>(J. Martin, Calte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8:42:46Z</dcterms:created>
  <dc:creator>Elizabeth Beise</dc:creator>
  <dc:description/>
  <dc:language>en-US</dc:language>
  <cp:lastModifiedBy>Elizabeth Beise</cp:lastModifiedBy>
  <dcterms:modified xsi:type="dcterms:W3CDTF">2003-03-11T18:42:58Z</dcterms:modified>
  <cp:revision>1</cp:revision>
  <dc:subject/>
  <dc:title>The G0 experiment at JLAB</dc:title>
</cp:coreProperties>
</file>