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F20F-EBCE-4A7A-A22D-36D8CC46F4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0FE53-EC86-4708-824F-7535E4EA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70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BEA2-7D88-4384-8767-1ACE522B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85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2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85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2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19B2-9C89-4A64-B04D-9D07C6848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FA73-C26E-426D-BE93-88723315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E540-C785-46DB-8769-545B0D76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D1DA-7987-4FA1-B5D1-8D813A23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A036-3CF6-4BF5-BA51-E3423E954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6091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E0B8-0C34-433D-B4BF-F90FFA6C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5542A-DE28-4417-8574-6F5FFCD9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70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EF3D1-A28A-46CA-B7E6-9BA5219D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70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28E09-AF2D-41BD-A672-2A88767A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F2DB-D28E-4984-8F72-7AB2E8500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  <a:p>
            <a:pPr lvl="1" marL="690840" indent="-26568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  <a:p>
            <a:pPr lvl="2" marL="1062720" indent="-21240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  <a:p>
            <a:pPr lvl="3" marL="1487880" indent="-21240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  <a:p>
            <a:pPr lvl="4" marL="1913040" indent="-21240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  <a:p>
            <a:pPr lvl="5" marL="1913040" indent="-21240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  <a:p>
            <a:pPr lvl="6" marL="1913040" indent="-212400">
              <a:spcBef>
                <a:spcPts val="85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38280" y="509760"/>
            <a:ext cx="71438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Metric Via Fanout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 Narrow"/>
              </a:rPr>
              <a:t>BGA’s</a:t>
            </a:r>
            <a:endParaRPr b="1" i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52800" y="2928960"/>
            <a:ext cx="58752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following slides provide Via Fanout routing examples for various pitch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Ball Grid Array Packag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.5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08840" y="154764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5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7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8840" y="3505320"/>
            <a:ext cx="303516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0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0.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60520" y="150804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.5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38840" y="154764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6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8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38840" y="3467160"/>
            <a:ext cx="330516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 0.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0.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500120" y="1662120"/>
            <a:ext cx="425124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.5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08840" y="150804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5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7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08840" y="3467160"/>
            <a:ext cx="303516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0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0.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00120" y="1432080"/>
            <a:ext cx="4532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.5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08840" y="150804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60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80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08840" y="3467160"/>
            <a:ext cx="303516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2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0.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00120" y="1469880"/>
            <a:ext cx="45259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76440" y="241200"/>
            <a:ext cx="691344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etric BGA Working Grids</a:t>
            </a: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76440" y="1277640"/>
            <a:ext cx="691344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Placement, Via Fanout and Routing grids should be evenly divisible into 1m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3048120"/>
            <a:ext cx="331632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ric Working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64240" y="3044880"/>
            <a:ext cx="407484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tric Non-Working Gr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37920" y="279360"/>
            <a:ext cx="7296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art Placement &amp; Via Fanout</a:t>
            </a: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4240" y="1278000"/>
            <a:ext cx="714348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en placing components on a PCB Design, always have your Via Display Grid turned on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hen you place the parts, place the part pins evenly in-between your Via Display Grid to optimize the via fanout lengths and maximize your available routing channels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You may have to use various placement grids to accomplish this, but you will enhance the routing phase of the PCB Design layout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35040" y="240840"/>
            <a:ext cx="72230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Optimal Via Padstacks</a:t>
            </a: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37920" y="1201320"/>
            <a:ext cx="72198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 Trace Width / 0.1 Route Gri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Pad Size: 0.5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Hole Size: 0.25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nti-pad: 0.7 – Avoid Trace / Anti-pad Overlap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25 Trace Width / 0.25 Route Gri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Pad Size: 0.65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Hole Size: 0.3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nti-pad: 0.8 – Avoid Trace / Anti-pad Overlap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15 Trace Width / 0.1 Route Gri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Pad Size: 0.55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Hole Size: 0.25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Anti-pad: 0.75 – Avoid Trace / Anti-pad Overlap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37920" y="317520"/>
            <a:ext cx="72961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aximize Routing Channels</a:t>
            </a:r>
            <a:endParaRPr b="1" i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37920" y="1393920"/>
            <a:ext cx="7296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sign your PCB like you are planning a housing developmen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rst establish where all the freeways are going to go – Buss Routes and Main Arter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n establish the local road map – Trace Routes that don’t have to ben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n build the houses along each side of the local roads – Via Sit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84200" y="266040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Arial"/>
              </a:rPr>
              <a:t>Questions?</a:t>
            </a:r>
            <a:endParaRPr b="1" i="1" lang="en-US" sz="5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98360" y="663480"/>
            <a:ext cx="6383160" cy="52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d By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Tom Hausher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or of Technology</a:t>
            </a:r>
            <a:br>
              <a:rPr sz="44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Arial"/>
              </a:rPr>
              <a:t>Tom.@PCBLibraries.com</a:t>
            </a:r>
            <a:br>
              <a:rPr sz="3600"/>
            </a:br>
            <a:endParaRPr b="1" i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19640" y="2622600"/>
            <a:ext cx="33908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0.8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08840" y="146988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4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6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4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08840" y="3532320"/>
            <a:ext cx="291780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 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.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0.2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76440" y="1566720"/>
            <a:ext cx="43592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0.8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38840" y="154764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4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6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4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38840" y="3494160"/>
            <a:ext cx="318924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 .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0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0.2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38280" y="1662120"/>
            <a:ext cx="416556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08840" y="146988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50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70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5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08840" y="3456000"/>
            <a:ext cx="303516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76440" y="1432080"/>
            <a:ext cx="4487760" cy="44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38840" y="150804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5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7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3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5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38840" y="3467160"/>
            <a:ext cx="3305160" cy="24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 0.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6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0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00120" y="1585800"/>
            <a:ext cx="428940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8840" y="154764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5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7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5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08840" y="3467160"/>
            <a:ext cx="303516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0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00120" y="1432080"/>
            <a:ext cx="455616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08840" y="149868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50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2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70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5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08840" y="3467160"/>
            <a:ext cx="303516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2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1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: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38280" y="1469880"/>
            <a:ext cx="4492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38280" y="279360"/>
            <a:ext cx="72961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 PIN 1.27mm PITCH B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92920" y="1355760"/>
            <a:ext cx="29178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Via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d: 0.63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le: 0.30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ti-Pad: 0.8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GA Pad Size: 0.6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 (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92920" y="3311640"/>
            <a:ext cx="3035160" cy="28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ace/Space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 Width: 0.127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Trace Space:.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race/Via Space: 0.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uting Grid: 0.127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a Grid: 0.635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(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 1: 1.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t Place Grid 2: 0.6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60520" y="1547640"/>
            <a:ext cx="44546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1T20:51:31Z</dcterms:created>
  <dc:creator>Tom Hausherr</dc:creator>
  <dc:description>Copyright Tom Hausherr</dc:description>
  <dc:language>en-US</dc:language>
  <cp:lastModifiedBy>Tom Hausherr</cp:lastModifiedBy>
  <dcterms:modified xsi:type="dcterms:W3CDTF">2003-10-02T02:53:06Z</dcterms:modified>
  <cp:revision>75</cp:revision>
  <dc:subject>Metric Via Fanout BGA</dc:subject>
  <dc:title>Metric Via Fanout BGA</dc:title>
</cp:coreProperties>
</file>